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D484-DD9C-417E-8AC3-34B47CB4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21D3-04D5-4D63-B18A-4193786B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C52-BC42-4665-B5A7-567DD281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C862-C13B-4703-9EF7-7200F4C50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EE1-7CDD-4991-81FF-618EA30A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6CF0-3C5D-4B5E-8505-0CA6996A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DC9-FC6C-4D4C-B277-D045DD64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D62-71D3-4EAE-AD36-FABFAA0F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FE2C-4BFE-4210-9BDB-1422EC45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7FB-9331-4AD3-95D3-C2ED5288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506B-0B18-4FA1-9618-AEB03DAD2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DD2-F3AC-487F-B0D0-C7316D26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596-7BD6-4AF8-B422-709F14BDD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25B-F6E2-4A4A-9308-3D829558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F79F-0FD1-4B86-A47A-106BB72B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AD7-118D-4AFD-9230-AA1EF2BC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0D6-8594-43AC-A1A3-5CB22D1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667-1C48-4526-9516-3691DF0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924-7859-4E10-9CCE-4A29A3E0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2F0-167E-4E70-9D08-11C11AFA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A6D-E434-4FBF-8E19-7CD0600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FFA-6403-4CBE-883B-B8DA69F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F92-11FA-4866-B0E5-B97D5CC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0D7-B13A-414E-98F7-3A602F9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ECB-E129-481B-9327-C8044AA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724-7FA2-4F81-9F53-B0FEFAB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0F1-66DE-4F89-9D1E-A314DE7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8891-5851-4817-83DD-E3D95E38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DC6-CFCD-4041-A749-CF29A8D7A4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И КОМПЛИКАЦИЈЕ ПОСЛЕ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4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9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Фактори од значаја за зарастање рана у устима, алвеолитис, инфек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ране, постекстракциони бол и страно тело у ра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 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6D0C-2329-45C7-93EC-5CA3CE4635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69800" y="17208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прве и почетком друге недељ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је добро организован . Отвор ране је знатно смањен. Око десетог дана јављају се први знаци калцификације дуж спољних зидова алвеоле.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матра се да се кост јавља као последица периосталне остеогенезе, као одговор на дејство сила употребљених  за вађење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Zoran\Downloads\oralna hirurgija\slike\imagesphs.jpg"/>
          <p:cNvPicPr/>
          <p:nvPr/>
        </p:nvPicPr>
        <p:blipFill>
          <a:blip r:embed="rId1"/>
          <a:stretch/>
        </p:blipFill>
        <p:spPr>
          <a:xfrm>
            <a:off x="2766960" y="3367080"/>
            <a:ext cx="3537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0D4-1085-48A0-8EFF-21AAC3E2C0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20840" y="1563840"/>
            <a:ext cx="842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друг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вице мањих алвеола су прекривене епит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ве недеље после вађења зуба алвеола је испуњена дебелим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дни су и знаци стварања нове кости у центру саме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м периоду таложе се соли калцијума, тако да је око 30-ог дана алвеола испуњена са око 2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/3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новом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вице епителизиране алвеоле су нешто ниже од ивица суседних зуба, што је последица активности остеокласта, тј. ресорпц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о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четврт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еље новоформирана кост постаје дебља и слична ламеларној кости, а дебљина крвних судова се смању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E17A-2A81-4A3F-BBB8-D8F951A121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69800" y="1768320"/>
            <a:ext cx="81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Шест недељ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вађења зуба алвеола је испуњена новим трабекулама између који је фина фаскуларна мр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а се у потпуности испуњава коштаним ткивом 4-6 месец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lika 4"/>
          <p:cNvPicPr/>
          <p:nvPr/>
        </p:nvPicPr>
        <p:blipFill>
          <a:blip r:embed="rId1"/>
          <a:srcRect l="0" t="13179" r="0" b="16525"/>
          <a:stretch/>
        </p:blipFill>
        <p:spPr>
          <a:xfrm>
            <a:off x="0" y="3287880"/>
            <a:ext cx="9144000" cy="2304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07800" y="58910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0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00280" y="58672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2200" y="58435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729320" y="5859360"/>
            <a:ext cx="120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4</a:t>
            </a:r>
            <a:r>
              <a:rPr b="0" lang="sr-CS" sz="16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219720" y="5859360"/>
            <a:ext cx="12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8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7711920" y="58593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ступак са раном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4B9-CA04-4684-B610-55D54B9B6B4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325440" y="1442880"/>
            <a:ext cx="8661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онити из алвеоле сва страна тела која могу да ометају и компликују зарастање ране ( заостало корење, делове кости алвеоле, амалгамске пломбе, каменац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транити заостало гранулационо ткиво и хроничне периапикалне проц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ре ивице кости треба заоблити како не би иритирале околна мека ткива, такође и интеррадикуларни септум који има уску б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ећене делове гингиве треба ексцид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нирати коштане лам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ровоцирати крварење ако је алвеола сув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Чиниоци од значаја за зарастање ран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E8F4-A2C3-436F-AF15-C55D085A21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80960" y="1492200"/>
            <a:ext cx="816948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ОПШТИ ЧИНИОЦ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хипопротеинемија и анемија, хиповитаминоза витамина А, Ц и Д, примена кортизона и кортикостероида, старост пацијента и многа друга системска обољења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ЛОКАЛН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љувачка                                -  Траума која настаје вађ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организми                     -  Затварање ране под тенз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настанка ране             -   Локализација и врст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остао корен у рани             -   Вазоконстриктор у анаестез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алвеоларна киретажа  -   Апликовање медик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7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5BF2-8B3E-4BC3-B426-C421E67F81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80960" y="1768320"/>
            <a:ext cx="8169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УСПОРЕНО ЗАРАСТ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представља компликацију у правом смислу те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нема клиничких манифестација у смислу болова, инфекције или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региструје код пацијената  за које се зна да су били изложени факторима који успоравају процес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ацијенти на радиотерапији у пределу лица или пацијенти на дуготрајној терапији кортикостероидим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неки локални чиниоци делују на успорено зарас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медикаменти у алвеоли или веће разарање кост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8CF-9A40-4029-BA8C-0F6903F2694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28480" y="17683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ПОСТЕКСТРАКЦИО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на од најчешћих компликациј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узроци: повреда меких ткива, поцепана и нагњечена гингива, повреда кости и периоста, фрактура алвеоларног наставка, назупчене ивице кости, инфекција ра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узрок бола су перзистентни интеррадикуларни и интердентални септу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услед луксационих покрета, може доћи до микроповреда септума, која није клинички евиден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1F2-36A7-4636-9F26-97576E6C6D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Picture 11" descr="C:\Users\Zoran\Downloads\oralna hirurgija\slike\imagesseptum.jpg"/>
          <p:cNvPicPr/>
          <p:nvPr/>
        </p:nvPicPr>
        <p:blipFill>
          <a:blip r:embed="rId1"/>
          <a:srcRect l="3443" t="3373" r="2899" b="22254"/>
          <a:stretch/>
        </p:blipFill>
        <p:spPr>
          <a:xfrm>
            <a:off x="2538360" y="1503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C:\Users\Zoran\Downloads\oralna hirurgija\slike\imagesbgfr.jpg"/>
          <p:cNvPicPr/>
          <p:nvPr/>
        </p:nvPicPr>
        <p:blipFill>
          <a:blip r:embed="rId2"/>
          <a:srcRect l="688" t="4062" r="54700" b="52708"/>
          <a:stretch/>
        </p:blipFill>
        <p:spPr>
          <a:xfrm>
            <a:off x="673200" y="4246560"/>
            <a:ext cx="2832120" cy="19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Zoran\Downloads\oralna hirurgija\slike\imagesbgfr.jpg"/>
          <p:cNvPicPr/>
          <p:nvPr/>
        </p:nvPicPr>
        <p:blipFill>
          <a:blip r:embed="rId3"/>
          <a:srcRect l="50948" t="58791" r="3049" b="6103"/>
          <a:stretch/>
        </p:blipFill>
        <p:spPr>
          <a:xfrm>
            <a:off x="4824360" y="4282920"/>
            <a:ext cx="34606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75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DF8F-DE16-41D2-B63A-65125800FB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469800" y="1514520"/>
            <a:ext cx="827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ЛВЕО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поремећај у првој и другој фази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итис чешће настаје код вађења гангренозних и пулпитичних зуба а готово никад код пародонтопати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проценту се јавља после екстракције доњих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ан од фаворизујућих фактора у настанку алвеолита је рад са машином и боре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атра се да је фибринолиза у самој алвеоли један од главних фактора за настанак ове ком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C:\Users\Zoran\Downloads\oralna hirurgija\slike\imagesxsx.jpg"/>
          <p:cNvPicPr/>
          <p:nvPr/>
        </p:nvPicPr>
        <p:blipFill>
          <a:blip r:embed="rId1"/>
          <a:stretch/>
        </p:blipFill>
        <p:spPr>
          <a:xfrm>
            <a:off x="6635880" y="5089680"/>
            <a:ext cx="1400040" cy="135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0" y="6424560"/>
            <a:ext cx="403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A09-24FE-405A-8D05-393031A38D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469800" y="1612800"/>
            <a:ext cx="820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тиопатогенеза алвеолитиса ни до данас није потпуно разјашњ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је прихватила схватање да се алвеолитис јавља због поремећаја локалног метаболизма алвеоле у којој постоји исх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ry-socket-2.jpg"/>
          <p:cNvPicPr/>
          <p:nvPr/>
        </p:nvPicPr>
        <p:blipFill>
          <a:blip r:embed="rId1"/>
          <a:stretch/>
        </p:blipFill>
        <p:spPr>
          <a:xfrm>
            <a:off x="1995480" y="3728880"/>
            <a:ext cx="518148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B49-D812-4FB7-8F4B-C8DE4A580C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528920"/>
            <a:ext cx="8217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изложеност према спољној средини, ране у устима могу да буду: затворене и отвор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творене су хируршке ране, оне које настају у току орално-хируршких интервенција и оне се затварају хируршким шав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творене ране су чешће и настају после вађења зуба, а њихова орална површина је у директном контакту са усном дупљ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C:\Users\Zoran\Downloads\oralna hirurgija\slike\imagesnbn.jpg"/>
          <p:cNvPicPr/>
          <p:nvPr/>
        </p:nvPicPr>
        <p:blipFill>
          <a:blip r:embed="rId1"/>
          <a:stretch/>
        </p:blipFill>
        <p:spPr>
          <a:xfrm>
            <a:off x="5456160" y="4118040"/>
            <a:ext cx="2932200" cy="21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Zoran\Pictures\slike pacijenti\slike\Milan Rakic\IMG_4373.jpg"/>
          <p:cNvPicPr/>
          <p:nvPr/>
        </p:nvPicPr>
        <p:blipFill>
          <a:blip r:embed="rId2"/>
          <a:srcRect l="18975" t="40016" r="31722" b="16521"/>
          <a:stretch/>
        </p:blipFill>
        <p:spPr>
          <a:xfrm>
            <a:off x="565200" y="4162320"/>
            <a:ext cx="315900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51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C8FF-BF76-4688-AA19-0F11DE09D8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469800" y="1647720"/>
            <a:ext cx="81694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А СЛИКА АЛВЕОЛ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уство здравог, виталног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езиван бол ( иригација према уву, врату и слепочниц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exudativ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испуњена распадутим и дезорганизованим коагулумом, који је прљаво сиве боје, непријатног мириса и лако се кида пинц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C:\Users\Zoran\Downloads\oralna hirurgija\slike\imagesvfd.jpg"/>
          <p:cNvPicPr/>
          <p:nvPr/>
        </p:nvPicPr>
        <p:blipFill>
          <a:blip r:embed="rId1"/>
          <a:srcRect l="41380" t="630" r="30699" b="42520"/>
          <a:stretch/>
        </p:blipFill>
        <p:spPr>
          <a:xfrm>
            <a:off x="3416400" y="4619520"/>
            <a:ext cx="19731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4073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ABFE-DB74-4248-AB4E-3A4CFD78D6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69800" y="1936800"/>
            <a:ext cx="81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sicc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потпуно празна, без икаквог коагул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C:\Users\Zoran\Downloads\oralna hirurgija\slike\imagesnhbn.jpg"/>
          <p:cNvPicPr/>
          <p:nvPr/>
        </p:nvPicPr>
        <p:blipFill>
          <a:blip r:embed="rId1"/>
          <a:stretch/>
        </p:blipFill>
        <p:spPr>
          <a:xfrm>
            <a:off x="2568600" y="2975040"/>
            <a:ext cx="379728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962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84F-85D3-4704-BF49-F80C680D017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457200" y="1805040"/>
            <a:ext cx="818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– види се задебљала ламина дура која онемогућава довољно крвар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Zoran\Downloads\oralna hirurgija\slike\imagescdfd.jpg"/>
          <p:cNvPicPr/>
          <p:nvPr/>
        </p:nvPicPr>
        <p:blipFill>
          <a:blip r:embed="rId1"/>
          <a:stretch/>
        </p:blipFill>
        <p:spPr>
          <a:xfrm>
            <a:off x="2703600" y="2562120"/>
            <a:ext cx="3340080" cy="24829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0"/>
          <p:cNvSpPr/>
          <p:nvPr/>
        </p:nvSpPr>
        <p:spPr>
          <a:xfrm>
            <a:off x="673200" y="5100480"/>
            <a:ext cx="79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- формирање виталног, еластичног и компактног коагулума који смањује бол пациј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C93-593D-4AB2-84F8-6C477D2952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7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480960" y="176832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ИНФЕКЦИЈ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07960" y="2502000"/>
            <a:ext cx="796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тка компликација. Чешће се јавља после вађења зуба са већ постојећом инфекцијом. (периапикално ил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коронар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инфекције ране је пре свега антибиот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infected-wisdom-tooth-socket-after-extraction-1.jpg"/>
          <p:cNvPicPr/>
          <p:nvPr/>
        </p:nvPicPr>
        <p:blipFill>
          <a:blip r:embed="rId1"/>
          <a:stretch/>
        </p:blipFill>
        <p:spPr>
          <a:xfrm>
            <a:off x="2881440" y="4173480"/>
            <a:ext cx="362556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26A-79C1-4DDF-B104-F5493EA9E4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44600" y="1503360"/>
            <a:ext cx="817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ТРАНО ТЕЛО У 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ило да се ради о делу инструмента или секвестру обавезно је његово вађење из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ЕКУНДАРНО ПОСТЕКСТРАКЦИОНО КРВ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ДЕФОРМАЦИЈА АЛВЕОЛАРНОГ ГРЕБ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Users\Zoran\Downloads\oralna hirurgija\slike\imagesvchg.jpg"/>
          <p:cNvPicPr/>
          <p:nvPr/>
        </p:nvPicPr>
        <p:blipFill>
          <a:blip r:embed="rId1"/>
          <a:stretch/>
        </p:blipFill>
        <p:spPr>
          <a:xfrm>
            <a:off x="3035160" y="4095720"/>
            <a:ext cx="311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3CF-3766-4EAE-A629-983467C797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93560" y="180504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опште посматрано, постоје три фазе кроз које пролази зарастање ране: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лиферативна фаз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3-5 дана ),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ибробластна фаз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2-3 недеље )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а сазревања ра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вих фаза долази до ултраструктурних, инфламаторних и пролиферативн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C:\Users\Zoran\Pictures\imagesCAVHGJG3.jpg"/>
          <p:cNvPicPr/>
          <p:nvPr/>
        </p:nvPicPr>
        <p:blipFill>
          <a:blip r:embed="rId1"/>
          <a:stretch/>
        </p:blipFill>
        <p:spPr>
          <a:xfrm>
            <a:off x="3046320" y="3824280"/>
            <a:ext cx="32212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96F-1264-4E3F-A0B8-973B42D4D2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57200" y="1684440"/>
            <a:ext cx="83739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у од посебног значаја у савременим схватањима процеса регенерациј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ктори 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дермал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ктор раста пореклом из тромбоци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D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нсформишући фактор раста алфа и бе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GF- alfa TGF-bet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ток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580-8663-4D6B-BFB1-51B91E98B9F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93560" y="1671480"/>
            <a:ext cx="81457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начин и квалитет, постоје три врсте зарастања р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primam intentionem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secundam intentionem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кунд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tertiam intetionem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одразумева зарастање употребом  режњева преко ткива која зарастају секундар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0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656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2A4-1213-4C3E-AD6B-FAF4E74D638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69800" y="1515960"/>
            <a:ext cx="8156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а настала вађењем зуба у току зарастања пролази кроз следећ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ганизација коагулума помоћу пролиферације гранулацио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мена гранулационог ткива везивним ткивом  и епителизација и затвар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нов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healing-oforalwounds-copy-44-638.jpg"/>
          <p:cNvPicPr/>
          <p:nvPr/>
        </p:nvPicPr>
        <p:blipFill>
          <a:blip r:embed="rId1"/>
          <a:srcRect l="0" t="0" r="2121" b="54411"/>
          <a:stretch/>
        </p:blipFill>
        <p:spPr>
          <a:xfrm>
            <a:off x="1547640" y="4365720"/>
            <a:ext cx="5697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544-F43F-4161-AB06-3AA9794487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44600" y="1552680"/>
            <a:ext cx="817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коагулума је вишест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н својим механичким дејством притиска околне крвне судове и обезбеђу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стаз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ко формиран коагулум представља основу з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лиферациј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ћелијских елемената из околног ткива, а уједно и штити околна сензитивна нервна влакна и смањује б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ериоду од формирања до организовања, коагулум трпи квалитативне и квантитативне про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Zoran\Downloads\oralna hirurgija\slike\imagesy.jpg"/>
          <p:cNvPicPr/>
          <p:nvPr/>
        </p:nvPicPr>
        <p:blipFill>
          <a:blip r:embed="rId1"/>
          <a:srcRect l="5853" t="-1776" r="39475" b="0"/>
          <a:stretch/>
        </p:blipFill>
        <p:spPr>
          <a:xfrm>
            <a:off x="2490840" y="4175280"/>
            <a:ext cx="42829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3AC-D208-4495-A953-227063A9F3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920" y="1587600"/>
            <a:ext cx="840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вог да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е ћелије су у коагулуму присутне у истој пропорцији као и у општој циркулацији, локализоване између мреже фибринских влакана. Тамно црвен је, еластичан притиском на пинцету се у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ин је прва структура која повезује ивице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показује зону контракције и ствара се сером који је добра подлога за настанак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ва два три дана ствара се и прво гранулационо ткиво на периферији ране насталој од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ална површина коагулума постаје беличаста, а прекривена је дебелим слојем фибрина који штити рану. У овој фази, појављују се фактори раста, који активирају и стимулишу процес зарас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CFF-31B0-48F5-A6BC-6C254455C3D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57200" y="1731960"/>
            <a:ext cx="819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четком прв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почиње митотичка активност епител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ти пролиферишу од ћелија везивног ткива из остатака периодонталне мембране ( од периферије ка центру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ћег – четвртог дана после вађења зуба почиње и ангиогенеза према отвору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imagescvg.jpg"/>
          <p:cNvPicPr/>
          <p:nvPr/>
        </p:nvPicPr>
        <p:blipFill>
          <a:blip r:embed="rId1"/>
          <a:stretch/>
        </p:blipFill>
        <p:spPr>
          <a:xfrm>
            <a:off x="2390760" y="3987720"/>
            <a:ext cx="43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0:36Z</dcterms:modified>
  <cp:revision>1126</cp:revision>
  <dc:subject/>
  <dc:title>NAZIV PREDAVANJA</dc:title>
</cp:coreProperties>
</file>